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58734"/>
        <c:axId val="87415598"/>
      </c:barChart>
      <c:catAx>
        <c:axId val="74458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15598"/>
        <c:crosses val="autoZero"/>
        <c:auto val="1"/>
        <c:lblAlgn val="ctr"/>
        <c:lblOffset val="100"/>
        <c:noMultiLvlLbl val="0"/>
      </c:catAx>
      <c:valAx>
        <c:axId val="87415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58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936-070E-4A25-8895-122F03F5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7EA-EA8B-4A47-8C5F-04A1603B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402-892F-4B8F-8C36-3C159FBB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4EB-7FD5-4BB8-9EC7-B99AD02A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A31-E9D7-4A0C-92E4-5AAF0F4C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5CC-B595-4EC7-A157-589A1394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3EF-4FFB-4068-931F-6B0837F3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D7B-228E-469C-8F79-3EF04B6C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5D7-DAFA-4323-93A2-DF1928FB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10C-7C7A-4C7A-9194-2D4ABCEE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55B-569F-4FF7-81F7-FD46CA8B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F4F-3EEB-420D-A115-A3A89B4A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9BBA7-CF8C-4551-8196-6DF034934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