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76104"/>
        <c:axId val="54601518"/>
      </c:barChart>
      <c:catAx>
        <c:axId val="36761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601518"/>
        <c:crosses val="autoZero"/>
        <c:auto val="1"/>
        <c:lblAlgn val="ctr"/>
        <c:lblOffset val="100"/>
        <c:noMultiLvlLbl val="0"/>
      </c:catAx>
      <c:valAx>
        <c:axId val="546015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761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C95F-CC8C-4CAE-92DB-AC53D630B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8794-22C9-464A-A2E4-B1006B9E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2515-C997-4274-87F0-F7A9039C2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BFD7-5DFB-4C58-B396-1D1017E2A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F5CA-36E7-4E8C-9296-CAA45887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78EF-0A4F-4081-B6D3-EB9945DE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6052-83CA-48D5-8ABA-ACDAFEF7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BDF0-2BEE-4788-8CD0-5E3AD48C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0EC0-F264-4DB2-9B83-D9A36C08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BEBA-345A-4EC3-80D7-ADB88294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9D6C-38B0-4C2C-9031-9B0D9D2A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BCE6-3506-4B76-9448-B2FF22BD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98C5D-0B13-48E3-964C-C68215B42F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