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26331"/>
        <c:axId val="9042035"/>
      </c:barChart>
      <c:catAx>
        <c:axId val="64026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2035"/>
        <c:crosses val="autoZero"/>
        <c:auto val="1"/>
        <c:lblAlgn val="ctr"/>
        <c:lblOffset val="100"/>
        <c:noMultiLvlLbl val="0"/>
      </c:catAx>
      <c:valAx>
        <c:axId val="9042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26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3DB-D39C-484A-8752-0E014D14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683-6F7F-4B3E-9C8B-1AEAB6FF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1B5-310F-4FEB-AB7A-E729F44D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592-AB31-4C00-AB04-B5C5F410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9E5-5920-4B60-9407-391A4857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972-2F4D-44B1-A0EE-26DCDA0F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419-BEE4-4771-A828-0AFA5B0D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B3E-75E9-44F3-925F-32E6C897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6A5-67AA-4551-9AE8-C2123953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709-7E1D-4672-918D-B8A17EF9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272-6CF5-4184-8C06-1353C17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337-042C-4AA3-8A1A-D228E989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E01CB-9B6C-4379-A74E-8DE5E70476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