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31952"/>
        <c:axId val="82851760"/>
      </c:barChart>
      <c:catAx>
        <c:axId val="68831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51760"/>
        <c:crosses val="autoZero"/>
        <c:auto val="1"/>
        <c:lblAlgn val="ctr"/>
        <c:lblOffset val="100"/>
        <c:noMultiLvlLbl val="0"/>
      </c:catAx>
      <c:valAx>
        <c:axId val="82851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31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910-F17A-4D8C-8C33-525A8600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AF5-A277-4C92-97B1-EF0EB80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C1B-0757-4D5C-A341-41D07420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6C4-0781-4AF7-803A-F2C7D64C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620-2043-4855-B83A-F34B2F0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CF6-EC69-45BE-A5AA-A22B848E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3CA-7FC1-4B7E-8F68-947BE8E5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92D-4282-4907-BA5C-31DD8347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327-1385-4FFE-84E1-B552D37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3AD-284E-47FD-BE23-2281DD8A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36D-EB5C-42AA-9ADB-3BC4C4C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FEB-7737-4802-AF79-ACAE1FD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B35D-45AE-47FF-AE5F-C8CB3DD483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