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57368"/>
        <c:axId val="32962446"/>
      </c:barChart>
      <c:catAx>
        <c:axId val="71657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62446"/>
        <c:crosses val="autoZero"/>
        <c:auto val="1"/>
        <c:lblAlgn val="ctr"/>
        <c:lblOffset val="100"/>
        <c:noMultiLvlLbl val="0"/>
      </c:catAx>
      <c:valAx>
        <c:axId val="32962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57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DFC-5802-4662-AAC0-2CF5EE87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11A-BDEF-4283-9FD4-BC359854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234-CC3D-47B8-9159-52119629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2C4-E681-4DD2-A571-FD61B957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DA0-A054-4C1B-A49E-3D07B97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42E-B194-45FE-8CC4-DFE26DF8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1D0-C701-4770-AE9B-27C943B1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187-317A-4344-B6B0-1B42B9C9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F17-2646-4EE3-9088-32A4224C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41D-5F86-4B72-A930-AD7923C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C1A-AA95-4B28-88C5-F887462F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179-2431-4BB5-971C-C14D4CF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FA089-4654-4021-8571-96AC421CA6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