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38633"/>
        <c:axId val="58353434"/>
      </c:barChart>
      <c:catAx>
        <c:axId val="806386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53434"/>
        <c:crosses val="autoZero"/>
        <c:auto val="1"/>
        <c:lblAlgn val="ctr"/>
        <c:lblOffset val="100"/>
        <c:noMultiLvlLbl val="0"/>
      </c:catAx>
      <c:valAx>
        <c:axId val="583534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386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594F-0827-4096-9057-8B4B9F60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C6A9-55AB-4DCD-A606-B526D67A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9EC0-9FC2-466A-AA04-FA353D0E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0852-13B9-4DA1-A1A2-57EC5552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6747-F7A6-4BFA-B7D1-7828DDCC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DAAD-3AF7-4C94-97C1-347C6EB0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388A-2C7D-45A2-AB10-0EE5BA8D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652F-00C7-42CB-BC42-1D47075E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2631-A860-42AC-A60D-04FC8062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39A2-13CB-4F80-B246-1C60309B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A28E-12EF-48A6-AFCD-EC774EBB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6E24-E44F-45E0-A9FE-24072E29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EAB0D-48D9-4F55-91F3-655EE5B20D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